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BDA-F89D-4B8D-B22B-E41E6C64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944-C575-432F-A763-7F88BA7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046-AE96-4D51-B812-1C46C2EE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ED7-A7CA-483F-8EFD-C636FB2E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9DA-2240-4DAD-BC18-C692FCE1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7C39-8B36-4A7C-AA08-68DD72B7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58FF-7C39-4163-913F-8DB6FCD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3BDC-FB67-44B4-A29B-47DD09A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121F-965E-42D4-A401-6A96D0C3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553F-3410-4FB1-A211-7908FDA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499C-52CF-46D4-AB50-0EBFC93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969-44EC-4B9C-8F8B-39522B5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446A-2559-4D1E-926F-2B1C14D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42C-E8EF-451D-82DB-B523E729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A0E9-D438-45AA-8447-4C0511E2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CD0-8691-4B0B-B273-7EDC5DC4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4607-AF33-43F0-92AC-94453AA1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28FAA-9562-4155-8AD7-2FB4DA4D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87994-459F-4C9B-9152-43FB2370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9CADD-CFA4-40A0-914F-A918C13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52D6F-D15A-42B9-B12E-4349C75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7019A-7F85-4343-B64D-EC2F634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5E1-FC09-42C8-8630-4961119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60626-6E01-4360-AE42-A492132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7771B-36F0-4453-8674-63869D9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A081D-89D9-4E72-BF2A-01EE707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9F518-125E-4451-9775-569D52D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56AB1-6DD0-4FCA-824E-44E5673A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352FB-5AF8-496A-8DE5-35CB8C87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D53A7-9AAB-4629-B0E5-96CFA658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FDA68-2F00-4A9A-B17A-43A39598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83C2A-A3C0-4670-9FF9-036E68A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FCD4F-5950-495A-B349-32FA40D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658-74DC-4CC4-877B-30491FB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D5CC7-DC1F-4B75-8A3E-CC6043C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1B4DF-6D1A-4CF9-96ED-4F3B040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8B013-D9D0-4CE6-8D95-BA93B6EA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94E91-3BD1-4A4D-A2FD-3DD5835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47D95-1660-470A-B74E-FD0EC67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5A9F3-33CF-45CB-B691-E5842ED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5F1DD-7422-4842-912D-4201F738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E6E45-F0BF-4946-9B5E-B2BD1FF0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0A1D1-D0A0-43C5-BE72-2489E63B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8F4B4-024E-4F3B-BEFD-62DE6CD6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A19-FFFD-4B3F-8699-5DF72F6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24260-F955-4C1B-9CD5-F76D5683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C8818-E246-42AC-B78E-A317A13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C9D71-26F9-471F-94FD-7AE9508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216E5-7C05-4ED3-AB7C-FFCA33F9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9B88C-D6E3-45B5-80F6-A7BFA88A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C413A-1BE1-4CE5-BDBE-6C26D4B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33935-5AAD-4388-8F38-93F2FD4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D7F71-9105-4411-A4DB-1D4A494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03335-939F-46B6-A776-8BB452C7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1E41E-26FF-4485-827D-88B2261C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2E2-C47F-49EE-99A4-E1654B7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14005-315B-4888-BD5B-F1FE9793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1161-D114-4DBA-B09E-F72BA85F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4012-B044-4F7B-B114-E996207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8294-B254-4429-A938-2B5ADB9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F4F4B-9DAE-4835-A2DA-18C21D12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50E4-2057-4D54-AE71-2A35A9A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1709-31AF-4AC3-B92A-02DDC410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7F2E-9A6C-4C2E-A09B-1D85BCA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3A9A4-3791-456A-AACF-4728C7E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ABB57-E3BA-403F-94AB-B14CB07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2AD-DC5D-4A8A-9863-AB35862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E469-857B-45AE-B08B-6716C171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B07C8-4F48-4014-944E-F042C02D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87F6-C651-4331-8C68-B0C8D99F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FB2C7-3C06-4DCD-854D-D4FCAC8A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B27BD-879C-416E-94B6-D3E346B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E0AD8-DFCB-49B3-8E58-1339E82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D4DCE-BBD7-49C0-BBF9-F0FDF25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38A10-6524-4B64-AC3C-984B44DC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E7F3F-FF97-4154-8C64-48CA7C8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96EC3-618E-4D95-9453-333207F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BDF-F851-4532-8FBA-C2E7450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D1C71-A8CD-4561-B625-BD99E16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689EC-81DE-4227-B1D7-AFE716DA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475FC-C007-4130-8DD6-27F2A28E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8A70D-E204-4C2E-9D07-6040A133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E8F0E-7757-40DD-AA2C-70EF264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7FAC6-4E43-41DE-B76A-799A4601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80F6-1EBE-4F79-8BF6-E310613D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A9CB-589C-4279-B055-9023104A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5819-EC20-4263-AE96-6026BC2B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98F5-3EF5-4202-9942-18EBEE79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E29-CAB5-4F04-9273-ECE616AF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8F581-D1BE-413C-9038-10CA99A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447E-D812-41A8-AAD9-80C7029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78CF-457C-4E42-B680-60F0D60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04A2-F016-4B72-91A2-1C4B85A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C5D55-BB7F-4E50-952A-7B0E3ED4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05151-E756-400A-BB89-FDEB753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740B5-E20C-41CA-8743-4C0B02D9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6D9-9844-413E-9010-4BCD21F4E6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1520-7298-4D8D-8BCD-AB97115240D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886-AAC1-47D9-B75F-8D90A471F30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E80-1280-49D0-9BB5-39BC7607A7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799C-DA07-4BDF-B23D-C9C6E42C51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384-9F1A-4D85-A040-07A4F067736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90A-6DE2-4E2D-9EEC-84E544CA345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F61-3CC9-4748-A504-D9F533ED5F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GENERAL GUIDELINES FOR WRITTEN WORK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nglish 12 – Mrs. Ves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 Handwritten Assign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ouble space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se loose-leaf, college-ruled pap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se blue or black in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write on the bac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ad all papers using MLA styl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rst line, flush with left margin – Your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line, flush with left margin – Your instructor’s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line, flush with left margin – The course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ine, flush with left margin – The due date (dd mm yyy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 ALL pages, upper right-hand corner – Your last name followed by the page number (1/2 inch from the top of the pag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 Typed Assign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uble spa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t margins at 1” for top, bottom, and both sid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12 point Times New Rom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white typing pap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ype on the 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ad the paper using MLA style as previously explain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eneral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eatness counts!  If you make a mistake, use correction fluid neatly.  Messy work is INEXCUSABL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put your final copy on top.  All notes, planning, rough drafts, etc. should be stapled to the back.  I grade what is on to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very essay MUST have a title.  Your topic is not your title.  Do NOT punctuate your titl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ways use PRESENT tense when writing about a literary wor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ways turn in your rough draft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4:28:31Z</dcterms:created>
  <dc:creator>pcoles</dc:creator>
  <dc:description/>
  <dc:language>en-US</dc:language>
  <cp:lastModifiedBy>pcoles</cp:lastModifiedBy>
  <dcterms:modified xsi:type="dcterms:W3CDTF">2009-01-25T19:54:52Z</dcterms:modified>
  <cp:revision>1</cp:revision>
  <dc:subject/>
  <dc:title>General Guidelines for Written Work</dc:title>
</cp:coreProperties>
</file>